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4CE-1141-49E6-AEC5-28C7DE57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06F-05E5-41D4-863E-5F9D2A68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B853D-1190-4EBC-82C4-2D2EBEC1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AB0D4-A245-4640-A2A1-95441177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BAE32-1DC5-48FD-A26D-3A79890C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B88C4-92E8-4229-800E-D434B24A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906B0-B07D-433C-8802-1CC929D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48FAE-2BA3-4D83-A955-1D14487B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0811E-0ECF-46C0-AE27-CAE0330B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1EE2C-A97A-46A3-B479-6D97DF60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FC74C-4C47-470A-ADB0-45B7D4A3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FF4B5-EF57-47A0-A0D7-669467A5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51E-6E55-4E15-B7A2-B37055A5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FF492-E1CA-42D7-B39C-6D02DA51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9BCF1-8511-436A-B0E5-1AC9A9CA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5E368-8B98-40CD-AD5E-A6C73641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30D1A-364A-4094-B57C-6221E43A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EB79C-167A-46A3-8BEE-3090D26D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3EF4D-6EB4-4B6A-9055-8CB1DE71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60EFE-D782-418A-BE92-D855DB40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3ED70-46D4-45FB-8D86-13039E73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DA20A-B301-41CC-9D63-53D0F619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9F0E3-90B8-416D-A3B5-6C371058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0B3-AF05-466D-B32B-E513E53C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EC952-2138-4D76-B7B4-75A6D3AD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A2400-A92F-4864-88A9-082D7292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1624D-EE13-4715-8A36-817CA99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B272E-B7FB-495F-A234-56FF09D2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CC3A6-D362-43D7-809D-DBD9B9A5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31F35-C183-4359-B61A-CAD33B9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D6EB3-037D-4F94-92D3-32ED5219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6681F-E87E-4395-9460-670A3793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9EDC1-5B5F-4B4F-AC21-2A867A3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8AD0A-0236-4E25-9F91-706FC9F7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0243-1AAD-4FB0-A3F0-11C6B447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120EF-91B9-4C01-8636-C777CAB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60293-A9DB-4B3F-B047-1C7C89F9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8115A-3488-450C-B2A1-5515611E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B1210-E473-4146-94D2-0447B32D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C86CE-E08F-4736-AE86-8358B30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14621-F0CD-47C4-8D8E-9B34EA77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C2558-652F-4537-88DD-24CDF076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85597-6684-4F56-A5C1-F371D9DB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3E5FD-7724-4DDF-8C85-1B4C903B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E4BD2-2E4C-4E1D-A94B-E7128B72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8537-67D6-41D7-864C-9DA94230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5E6F5-7CF8-4296-849F-74321281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B6655-5411-4C93-8C89-86CC559B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8BEE8-3B5F-42F1-8096-B79D3A2B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C631E-A7C8-4D36-8FC6-3617194C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7AE78-00B1-498D-A728-AF1025B0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99D9A-1D66-4A52-852B-B10DA62A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B59E4-AD70-468A-B308-9C159298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5F903-4D18-4116-947C-63912A6F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6BA11-3E81-419A-9A66-8152FC95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EE3F8-2F92-418B-9659-BCAD2445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3202-AD2C-4D0E-8134-CC3C3815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091A6-5113-42D5-8533-AEB9AAA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74E68-F0C1-4AE4-984D-65D2D57F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756EC-E5FC-4D57-81B3-52071FE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E7D33-F01B-4CAA-A2D0-026AF70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D47D8-4EB7-42FC-89E0-0444E07E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351E6-5049-4351-8B72-88D77A59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CF658-094D-473C-BEF5-2B3FAE72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B72F3-FA80-48CB-810D-7276C113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0CB5D-279B-4AEB-B82D-BC958D8E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5B1CA-AB48-44D6-8773-DCDA7994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2F4A-71AE-4869-9736-A6356B84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5B43F-D343-4550-A063-E35334C2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45A5A-530F-4502-B5EF-5949F761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16BCC-A208-453C-A0EE-C52DF31E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ECCBF-471A-4AF2-9B0A-1C20C2D5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4D142-4664-4C1B-8126-D0C1AE77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7ED1E-E047-4A7B-9687-D886666D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78A0A-CF03-4615-A734-34B63D58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AD9C8-990F-48ED-BE40-428B8B75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E5119-FB49-4059-B709-A87B76B4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02A67-557A-4660-A6C3-E4C07746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C30E-9A2D-4BFB-860D-2CAEF5D5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CFB92-3FF3-463B-B496-FA2BD7F3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EDE8C-EF66-4A4A-9B17-C62EC599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FBF68-D8BC-4F22-8EA1-BD8E50CF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4B2FD-103B-4446-B0B2-850D5C93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E2038-B8AC-4E8C-94D2-88850441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90E48-9361-4EBA-9320-ED9DCA73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F1CAF-AB6B-47EB-B28C-A721DA43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6A27C-23C7-47E5-A1E2-5EFA113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3614D-7263-4E8A-9941-1ABC11CF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6FA771-F793-492F-AEEC-A6853F40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377D-57C6-4D58-B5DD-8EA2B57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688BC-4A42-486C-A2E8-5C6FF301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33EF1-855B-4A3D-940E-112D4FC4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D86D8-F0D9-4A41-A552-A76F9D67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C6053-277B-4091-AB01-31E7DA72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E9FB1-3A19-422D-A783-45EDC0D5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1858F-39AE-4183-8E89-9EEADEBA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CD1AE-ACBD-4D89-BE48-A4C6AB36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4A4CD-A819-4F3F-851C-4C8C1B42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B6B23-0068-4C57-8233-2EAED986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6A459-6540-4E2D-9593-D3E50E9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351D-F40A-44EF-B721-3ABF471E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D488F-4F64-4076-A08D-11795D27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052B6-3BF7-49D9-9C10-921AEAED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80E21-B705-4935-B07E-8216B032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985-4E21-40D6-9C02-0AD3B551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E9DC-985B-4183-8AD0-6FE8227D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C53D-A79B-4AA5-81E4-9148127F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E8E7-971C-4D81-8485-5978D053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9413-5F6B-4B88-B89B-F350447F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56E1-722D-49C5-BC38-E12CD178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2E57-97E8-4847-9802-EA08F137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706E-633B-44CA-A4CB-4E0B8C78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144E-6A78-4174-BA9E-6D4FF1F9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31D8-FDCC-491C-8420-94CA6CD8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E69A-4EB7-4E60-9E0D-2E1B389E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60F-BFF8-4533-938A-85345365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1F57-CC25-4372-AD1A-6FD8311F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DEBF-815F-48AA-9CDB-55245C5E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1F74-DE3B-4332-9063-2AEE33E0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923D-BF90-4F73-ACB2-A88D246F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54ED-74F4-4179-8581-0E514857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CD21-99AF-434B-90E3-53963EA6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19D9E-540A-4E69-B4A0-BC0CA403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8815C-5CF4-4164-A9E7-C5838193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6BA4-E094-47A4-BC58-EA435A09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6074-9547-405C-B552-9CA7DC31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2CF-CA7B-447E-9B50-85CD2102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2259D-56DE-46DA-BB1A-13FB0DEE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F340-5392-445B-87FC-D1C92D1D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9F2E3-A61E-47FE-9191-75EC89D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10BC-3AD6-47DA-B268-E51E1F09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63266-2026-437D-A954-EE7103F0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7265-4AA0-4B80-AC9A-CD03997F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CD7E-5F25-4F70-90F9-7694A0A6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ABFE-7D59-4B62-A56A-CC1237F2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E239-B548-4844-BC55-BF999DA6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ACD27-3134-4937-913D-BB8F6E87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E04-EAD9-45D5-A87C-D736B524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FA81F-1B08-47DF-BD8D-7116791C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842C-26CF-4D0E-9372-22DA2029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7ABFA-D50C-4EA7-BCFD-3BC1487E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BE270-7AAD-4526-AA17-2C461F53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0724D-0C42-48A3-9D16-8900CC2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7A05-52F7-4C4E-BB02-DCCDB158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AEC98-4286-4AFC-93EF-55F7C8F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9CB2-C55B-42D8-AFD1-B33532F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47B1-E406-4241-9DE8-4F6D1023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59838-F84B-4972-A503-05DEC28F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A59-8243-4050-B61D-5B002B14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BCDF-EF65-4DAB-BA63-03105F4D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3ADAD-4AE8-4CDF-AEDB-12DCC52A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B18A1-7FD4-46DC-B082-08C78A38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9F324-420D-4B52-8AB5-17A3D34A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7DF69-FCF2-438E-ADC0-AC687709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E052B-CCDF-4A49-8D09-86996449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758D6-3720-44A1-965B-34842F5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965C7-ABD8-4876-AC42-D72976A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C8AEA-6F81-45D5-ADB2-C497970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B52C6-DBF6-4405-A3BB-A671E2C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454-D6AE-4900-8557-C3CAA992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23570-5C99-4BCF-85C9-7A0791C0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65E84-725E-49B6-87BD-9F302243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75E78-5A65-45C9-BCD1-C2D3CA1C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33B40-2053-4378-B5E8-A92338A2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ABB70-7DF1-440D-9715-8CF7E091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3297F-77D9-42B4-B7A2-B869955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A4928-F2C5-44A3-A894-DF460FCB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267CF-6E95-41F5-AF87-ADC6154D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D37C1-12D1-452F-84BC-6BED948C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B1729-8FFD-4FD5-BF73-26A39E6E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E99-7590-49E2-9368-E2B4E956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22C53-494B-4D55-9ACE-4305473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3CA958-54BD-4280-9513-2194983E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D2D6E-EDAC-430D-BD01-92D53849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25322-0456-4722-9B93-DF1FC414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46743-024E-49D1-BF44-8B1AC951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EA6A8-2B80-4785-BA8A-F6A6A5C0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77D35-1755-42AA-A3BE-F78D64F3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032E7-1E60-4E06-AB11-4F861832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2FC8F-3CC3-4125-BFA3-7D4FAB7C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9101B-EB47-4CB3-B664-782FC024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E64-2C96-45DE-A665-681DFCBA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FBB7C-9CB6-4C6D-AAB4-F7E2C74B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BC881-622A-445B-AB5C-A35E266F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A32B5-0B6A-45C0-BCF0-B9AC2D4C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D4833-B198-445E-939C-B058A983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ADAA4-2709-43FB-ADAD-EA55854E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F023-CD6F-4032-9CE5-E408B6A2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D1A53-E565-4834-ABC4-DD1876CC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68F2F-695C-4EC3-8BD3-110C1E1B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D3862-B6C5-496C-9AD4-466BEEB2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9F0CD-B885-4FE1-9CEF-BE89D6E0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F7C1-9BE0-4BE6-B8A2-6C565E32C7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581A-6084-48E3-A59C-6694BF0338A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466F-8B14-4C75-81ED-CF878C0E94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90D6-A4EC-44E8-BFD8-DB29B0C07D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C0E3-AA5B-4841-AA62-9999318B5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4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4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E10B-12B8-4ABA-B008-8810A56525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3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B32E-0FC5-469E-9A04-F11EF8A8CC8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8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19F-EB34-48E4-B1CC-D0904443F59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A5DB-687B-41BF-85A6-8F7990C50D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736D-9D78-4B02-9159-7169FFC9BAB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EC44-6994-477B-BDE2-1393858A383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13A7-C27A-41F4-B6E1-16F0FFBDA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261-D404-451B-B18D-CB568AC201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C17B-D98B-4D10-BA68-835F89C5C656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B134-29F1-40B2-8B87-A7C3206DE58A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494B-E9A6-45CE-8010-0747B4E2071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826920" y="33336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c5900"/>
                </a:solidFill>
                <a:latin typeface="华文彩云"/>
                <a:ea typeface="华文彩云"/>
              </a:rPr>
              <a:t>Welcome to join us!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3405240" cy="422100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79320" y="0"/>
            <a:ext cx="3275280" cy="42926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116000" y="4797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4292640"/>
            <a:ext cx="8353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198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A young boy called Elliott who made friends with a creature from outer space and helped him find a way back home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36003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219640" y="1052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692280"/>
            <a:ext cx="4248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Jurassic  Park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199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A park where a rich man keeps dinosaurs, some of whom, the  meat-eating ones, hunted children when hit by a stor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916360" cy="43923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968720" cy="3306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3492360" y="3789360"/>
            <a:ext cx="50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3      Schindler’s Lis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8      Saving Private Rya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The cruelty of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Love and peace will win 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ivit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388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is h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do you think of hi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ecret of his succ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4649760" y="1847880"/>
            <a:ext cx="40370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A______ director, was born in 1946. When still a young boy, he started m_____ short films. At the age of 12, he made his first real films, using actors instead of toys. He wrote the s____ for the film himself. When he was 13, he won a p____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meric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Americ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y he didn’t realize his dream to go to the Academy was that he did badly in his studies. After studying English, he got a job at a film studio where 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ork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a short film which won him a job as the youngest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dire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world. Then h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car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b________. Many people who saw the film were afraid to swim in the sea when they remembered the s______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c____ from o____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h_____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c_____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201080" cy="56880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1476360" y="692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ed before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76360" y="54450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ill happen after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80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is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ighly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we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was Spielberg’s dream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have you learnt from reading about Spielber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tivit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Dilige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Little chops can finally fell a great tre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William Shakespea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inal success often comes in the last five minutes.                 -------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difference between gifts and diligence cannot be told. It will remain unknown forever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-Beetho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y success does not lie in natural gift but in faithful devotion and practice.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Mei Lanfa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persevera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ecret of success is constancy of purpos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Chapli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ithout perseverance nobody can succeed.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  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 person should have a strong will, or he will achieve nothing.                 ------Madam Curi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fe is like an ocean: Only the strong-willed can reach the other shore.        ------Karl Mar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is the combination of hope and struggle.                             ------English proverb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a reporter from CCTV. You are  going to have an interview with Steven Spielberg. Mak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going to invite Steven Spielberg to your chatroom. Hav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y something about a dir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care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to his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179280" y="2157480"/>
            <a:ext cx="86407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uppose you are going to be a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m director. Say something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your future fil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 rot="388200">
            <a:off x="-1765440" y="476280"/>
            <a:ext cx="9685440" cy="560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Thanks for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     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joining u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1763640" y="537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ahoma"/>
              </a:rPr>
              <a:t>武进区湟里高级中学高一备课组   蒋秋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80283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0" y="189000"/>
            <a:ext cx="8569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Steven Spielberg</a:t>
            </a:r>
            <a:endParaRPr b="1" lang="en-US" sz="40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212868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childhood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you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everal of his successful fil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ecret of his succes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4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born in America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Made his first real film using real 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on a prize for a short fil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6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fireligh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couldn’t he go to the Academy as a young m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id he study t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job did he ge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won him the youngest director in the worl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is you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676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me some of his most successful fil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uccessful fil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311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0800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ffcc"/>
                </a:solidFill>
                <a:latin typeface="Tahoma"/>
              </a:rPr>
              <a:t>Jaw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197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real blockbus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white shark attack swimmers who were spending their holidays in a village by the se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0:12:39Z</dcterms:created>
  <dc:creator> </dc:creator>
  <dc:description/>
  <dc:language>en-US</dc:language>
  <cp:lastModifiedBy> </cp:lastModifiedBy>
  <dcterms:modified xsi:type="dcterms:W3CDTF">2003-10-14T02:35:08Z</dcterms:modified>
  <cp:revision>25</cp:revision>
  <dc:subject/>
  <dc:title>幻灯片 1</dc:title>
</cp:coreProperties>
</file>